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0C1-7EE8-40A4-9732-88E25F5D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B21-1F39-4827-88D1-0A89B2DF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15D-939B-4119-A57B-B6AFACCE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F1B-B309-45C8-A478-8F9D00E5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D4F-5891-41BF-BB90-D56F8A13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3AC-6E50-41C7-B948-CD978064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063-5923-49B4-847A-430C621C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875-FA77-4808-96EE-C21A50CD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459-1A16-4499-867A-449406C3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153-E25D-40B6-A0A3-12A72FD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31C-F7BA-49A1-9080-FD8DEAC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929-50BB-47F5-AE01-A50D921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3BEB-1B25-43BE-BAB3-2A33697F39E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Hafta sonu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halı sahaya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maça gelsi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Sahip olalım dilimiz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Sakla samanı</a:t>
            </a: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,</a:t>
            </a: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 gelir zaman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Sen işine bak kardeşim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Senin destanını okuyalım ezberden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Senin gibi esmeliy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Sınavı kazanmak için düzenli şekilde çalışını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57120" y="214200"/>
          <a:ext cx="8501040" cy="635796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27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anlık basmadan gideli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66"/>
                          </a:solidFill>
                          <a:latin typeface="Calibri"/>
                        </a:rPr>
                        <a:t>Yarım ekmek de şu çocuğa verin.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andıktan sonra çarşafı değiştir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66"/>
                          </a:solidFill>
                          <a:latin typeface="Calibri"/>
                        </a:rPr>
                        <a:t>Teklifini biraz daha düşüneyi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ğukta fazla dolaşmamalıyız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Hayatıma sebep olanı bulsa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Hayvanları burada toplamalıyı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Işıklarla dolsun kalbimin içi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Kara kazan kaynamasa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Kırılan kalbini düzelt onu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Kitabın şeklini defterine çizel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O da bizimle oyun oynamaya gelsi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Onu da </a:t>
            </a:r>
            <a:br>
              <a:rPr sz="8000"/>
            </a:br>
            <a:r>
              <a:rPr b="1" lang="it-IT" sz="8000" spc="-1" strike="noStrike">
                <a:solidFill>
                  <a:srgbClr val="000099"/>
                </a:solidFill>
                <a:latin typeface="Century Gothic"/>
                <a:ea typeface="Times New Roman"/>
              </a:rPr>
              <a:t>çağıralım yemeğe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7T06:15:38Z</dcterms:modified>
  <cp:revision>108</cp:revision>
  <dc:subject/>
  <dc:title>KONU 1</dc:title>
</cp:coreProperties>
</file>